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192-9A00-4F45-8347-242F1097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07C-884C-453B-B716-29D21B13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502-869E-4508-95CC-D575DC3C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832-1F00-4524-908D-BFB6DE69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38E6-06E8-45CF-BA4C-55A98AA3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71DD-C9E8-40EB-990C-2BB288EE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0B92-889A-46AD-AAD2-BFAE908D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9A56-8AD5-42D4-9CE4-AB5CCC71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034F-764B-4ED4-B520-C3006572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2C22-03EF-473F-95B8-FB0D6E9A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BC80-F20C-4D71-BB89-4982BD8C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5391-9A0D-4549-934A-30484D21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72D6-0955-4D79-B59D-074CAE74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DA91-C0FD-41EE-AE40-903FB180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D026-82FC-4DB6-9115-DEE2518D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1921-11BE-4C5B-ACB1-95C27662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86BB-A0C7-433B-8A7C-DA28DF5F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AA87-BE0D-48E4-A70A-67BA6B0C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94B-BAD0-4048-B8BF-1F690673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047-909B-4E25-8A81-9A2B1DCE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795-BFDC-4225-ABC5-BAD3B84C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8142-EEA4-465E-8BA1-1A6BB367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7A74-7705-4CE1-B6A6-F7FE06EA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D915-F4D2-4F94-A087-DEC0A503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C813-4F0E-4797-95A5-65D56AEE413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0E99-9790-4F54-995A-3489D4AA202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iteracy and Technology Integration in the Classroom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ephanie Ciaravo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ucation 702.2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pring 20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dterm Pres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urrent Practices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id Pi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ok Adven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d 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ypothesi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 believe that with an increase of technology in the classroom, rates of student participation and active engagement will increas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 Baker, E. (2000). Integrating Literacy and Tool-Based Techniques: Examining the Successes and Challenges.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Computers in the Schools, 16, (2),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73-89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arone, D. &amp; Wright, T. E. (2009).literacy Instruction with Digital and Media Technologies.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The Reading Teacher,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62, (4),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292 – 303. Retrieved from JSTOR. Doi:10.1598/RT.62.4.2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uce B. C., &amp; Bishop A. P. (2002). Using the Web to Support Inquiry- Based Literacy Development.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Journal of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Adolescent &amp; Adult Literacy, 45, (8)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06 – 714. Retrieved from JSTO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archmer, R. A. (2001). The Journey Ahead: Thirteen Teachers Report How the Internet Influences Literacy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teracy Instruction in Their K – 12 Classrooms.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Reading Research Quarterly, 36, (4),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442- 466. Retriev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JSTO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cArthur, C. A., Ferretti, R. P.,  Okolo, C. M., &amp; Cavalier, A. R. (2001). Technology Applications for Students with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teracy Problems: A Critical Review.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The Elementary School Journal, 101, (3)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73 - 30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loy, J. A., &amp; Gambrell L. B. (2006). Approaching the Unavoidable: Literacy instruction and the Internet.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Reading Teacher, 59, (5)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82 – 484. Retrieved from JSTOR. doi:10.1598/RT 59 9 8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mali, L. (2003). Ways with Visual Languages Making the Case for Critical Media Literacy.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The Clearing House,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76, (6),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271- 277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oman, E. (2003). Media Literacy: A Guided Tour of the Best Resources for Teaching.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The Clearing House, 76 (6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78-283. Retrieved from JSTO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tts-Taffe, S., Gwinn, C. B., Johnson, J. B., &amp; Horn, M. L. (2003). Preparing Pre-service teachers to integrat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chnology with the elementary literacy program.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The Reading Teacher, 57 (2),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130 –138. Retrieve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STOR.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odbridge, J. (2004). Technology Integration as a Transforming Teaching Strategy. </a:t>
            </a:r>
            <a:r>
              <a:rPr b="0" i="1" lang="en-US" sz="1200" spc="-1" strike="noStrike">
                <a:solidFill>
                  <a:srgbClr val="ffffcc"/>
                </a:solidFill>
                <a:latin typeface="Times New Roman"/>
              </a:rPr>
              <a:t>Technology and Learning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trieved from http://www.techlearning.com/article/2022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able of Cont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tement of the Problem  Pg. 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iew of The Literature Pg. 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ypothesis Pg. 1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ferences Pg. 1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atement of the Probl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-service teachers are learning technological tools and concepts during their education. However, when it comes time to implement this knowledge there is a lack of ability of bringing this theory to reality. With an increase of proper use of technology in the classroom, perhaps student participation and active engagement will also increase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Review of the Literatur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ierson defined technology integration as teachers utilizing content and technological and pedagogical expertise effectively for the benefit of student’s learning.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Woodbridge, Techlearning.co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Nicaise and Barnes compared technology to a tool that they used to promote a student centered, active learning environment”</a:t>
            </a:r>
            <a:br>
              <a:rPr sz="40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-  Rachel Karchmer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necting media literacy to the state standards for subject areas is currently a major challenge of the media literacy movement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Elizabeth Thoma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eachers are not generally prepared to use these new technologies of literacies or to teach children how to use them effectively”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Rachel Karchm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Times New Roman"/>
              </a:rPr>
              <a:t>Theorists</a:t>
            </a:r>
            <a:br>
              <a:rPr sz="80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Howard Gardner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 Multiple Intelligen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bal/Linguist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gical/Mathematic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inesthetic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sual/spatial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usical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erperso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raperso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turalist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00:32:32Z</dcterms:created>
  <dc:creator>Stephanie Ciaravolo</dc:creator>
  <dc:description/>
  <dc:language>en-US</dc:language>
  <cp:lastModifiedBy>Stephanie Ciaravolo</cp:lastModifiedBy>
  <dcterms:modified xsi:type="dcterms:W3CDTF">2010-03-16T19:42:01Z</dcterms:modified>
  <cp:revision>38</cp:revision>
  <dc:subject/>
  <dc:title>Literacy and Technology Integration in the Classroom Increasing Participation and Active Engagement of Students</dc:title>
</cp:coreProperties>
</file>